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ab Equipment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" name="Picture 3" descr="D:\My Documents\New Chemistry\Lab Powerpoints\Equipment\glassware.jpg"/>
          <p:cNvPicPr/>
          <p:nvPr/>
        </p:nvPicPr>
        <p:blipFill>
          <a:blip r:embed="rId1"/>
          <a:stretch/>
        </p:blipFill>
        <p:spPr>
          <a:xfrm>
            <a:off x="2743200" y="1752480"/>
            <a:ext cx="35812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ube Rack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609480" y="4724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st tube racks are for holding and organizing test tubes on the laboratory counter. Plastic racks may melt in contact with very hot test tub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1030" descr="D:\My Documents\New Chemistry\Lab Powerpoints\Equipment\testtuberacks.jpg"/>
          <p:cNvPicPr/>
          <p:nvPr/>
        </p:nvPicPr>
        <p:blipFill>
          <a:blip r:embed="rId1"/>
          <a:stretch/>
        </p:blipFill>
        <p:spPr>
          <a:xfrm>
            <a:off x="1447920" y="914400"/>
            <a:ext cx="60958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ubber Stopp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3" descr="D:\My Documents\New Chemistry\Lab Powerpoints\Equipment\rubberstoppers.jpg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19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648320" y="1752480"/>
            <a:ext cx="42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ubber stoppers are used to close containers to avoid spillage or contamina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48320" y="320040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ers should never be heated when there is a stopper in plac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ot Plat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8" name="Picture 4" descr="spotplates"/>
          <p:cNvPicPr/>
          <p:nvPr/>
        </p:nvPicPr>
        <p:blipFill>
          <a:blip r:embed="rId1"/>
          <a:stretch/>
        </p:blipFill>
        <p:spPr>
          <a:xfrm>
            <a:off x="5410080" y="1676520"/>
            <a:ext cx="2965680" cy="304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68580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ot plates are used when we want to perform many small scale reactions at one time. We will use these many times during the year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ch Glas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33520" y="2286000"/>
            <a:ext cx="382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watch glass is used to hold a small amount of solid, such as the product of a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2" name="Picture 4" descr="D:\My Documents\New Chemistry\Lab Powerpoints\Equipment\watchgl.jpg"/>
          <p:cNvPicPr/>
          <p:nvPr/>
        </p:nvPicPr>
        <p:blipFill>
          <a:blip r:embed="rId1"/>
          <a:stretch/>
        </p:blipFill>
        <p:spPr>
          <a:xfrm>
            <a:off x="4343400" y="1447920"/>
            <a:ext cx="45720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lass Stir Ro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2880" y="21337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glass rod is used to manually stir solutions. It can also be used to transfer a single drop of a solu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5" name="Picture 4" descr="D:\My Documents\New Chemistry\Lab Powerpoints\Equipment\rod.jpg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dicine Dropp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257800" y="14479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dicine dropper is used to transfer a small volume of liquid (less than one mL)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8" name="Picture 4" descr="D:\My Documents\New Chemistry\Lab Powerpoints\Equipment\dropper.jpg"/>
          <p:cNvPicPr/>
          <p:nvPr/>
        </p:nvPicPr>
        <p:blipFill>
          <a:blip r:embed="rId1"/>
          <a:stretch/>
        </p:blipFill>
        <p:spPr>
          <a:xfrm>
            <a:off x="457200" y="838080"/>
            <a:ext cx="4648320" cy="3602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7680" y="477036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 top of each medicine dropper is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ubber bulb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Line 8"/>
          <p:cNvSpPr/>
          <p:nvPr/>
        </p:nvSpPr>
        <p:spPr>
          <a:xfrm flipH="1" flipV="1">
            <a:off x="1066320" y="3276360"/>
            <a:ext cx="228600" cy="1523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tmus Pap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3" descr="D:\My Documents\New Chemistry\Lab Powerpoints\Equipment\limus.jpg"/>
          <p:cNvPicPr/>
          <p:nvPr/>
        </p:nvPicPr>
        <p:blipFill>
          <a:blip r:embed="rId1"/>
          <a:stretch/>
        </p:blipFill>
        <p:spPr>
          <a:xfrm>
            <a:off x="304920" y="106668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562720" y="1447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litmus paper is used to identify bas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562720" y="28954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Comic Sans MS"/>
              </a:rPr>
              <a:t>Blu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litmus paper is used to identify ac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ce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D:\My Documents\New Chemistry\Lab Powerpoints\Equipment\forceps.jpg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1933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914400" y="380988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ps (or tweezers) are used to pick up small objec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unn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190512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unnel is used to aid in the transfer of liquid from one vessel to anoth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Picture 4" descr="D:\My Documents\New Chemistry\Lab Powerpoints\Equipment\funnel.jpg"/>
          <p:cNvPicPr/>
          <p:nvPr/>
        </p:nvPicPr>
        <p:blipFill>
          <a:blip r:embed="rId1"/>
          <a:stretch/>
        </p:blipFill>
        <p:spPr>
          <a:xfrm>
            <a:off x="3886200" y="1600200"/>
            <a:ext cx="45878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hr Pipe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715000" y="2590920"/>
            <a:ext cx="313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ohr pipet measures and delivers exact volumes of liqu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Picture 4" descr="D:\My Documents\New Chemistry\Lab Powerpoints\Equipment\mohrpip.jpg"/>
          <p:cNvPicPr/>
          <p:nvPr/>
        </p:nvPicPr>
        <p:blipFill>
          <a:blip r:embed="rId1"/>
          <a:stretch/>
        </p:blipFill>
        <p:spPr>
          <a:xfrm>
            <a:off x="380880" y="1600200"/>
            <a:ext cx="49532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eaker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533520" y="1905120"/>
            <a:ext cx="374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eakers hold solids or liquids that will not release gases when reacted or are unlikely to splatter if stirred or heat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" name="Picture 4" descr="D:\My Documents\New Chemistry\Lab Powerpoints\Equipment\beaker.jpg"/>
          <p:cNvPicPr/>
          <p:nvPr/>
        </p:nvPicPr>
        <p:blipFill>
          <a:blip r:embed="rId1"/>
          <a:stretch/>
        </p:blipFill>
        <p:spPr>
          <a:xfrm>
            <a:off x="4419720" y="1523880"/>
            <a:ext cx="43434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sh Bott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876920" y="213372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wash bottle has a spout that delivers a wash solution to a specific area. Distilled water is the only liquid that should be used in a wash bott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6" name="Picture 4" descr="D:\My Documents\New Chemistry\Lab Powerpoints\Equipment\washbot.jpg"/>
          <p:cNvPicPr/>
          <p:nvPr/>
        </p:nvPicPr>
        <p:blipFill>
          <a:blip r:embed="rId1"/>
          <a:stretch/>
        </p:blipFill>
        <p:spPr>
          <a:xfrm>
            <a:off x="304920" y="1676520"/>
            <a:ext cx="44193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eighing Bo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2286000"/>
            <a:ext cx="458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ighing boats are used to weigh solids that will be transferred to another vesse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4" descr="D:\My Documents\New Chemistry\Lab Powerpoints\Equipment\boat.jpg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895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atula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1600200"/>
            <a:ext cx="40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atulas are used to dispense solid chemicals from their containers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4920" y="31240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emicals should never be transferred with your bare han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6" descr="D:\My Documents\New Chemistry\Lab Powerpoints\Equipment\spatulas.jpg"/>
          <p:cNvPicPr/>
          <p:nvPr/>
        </p:nvPicPr>
        <p:blipFill>
          <a:blip r:embed="rId1"/>
          <a:stretch/>
        </p:blipFill>
        <p:spPr>
          <a:xfrm>
            <a:off x="4191120" y="304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aker Tong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D:\My Documents\New Chemistry\Lab Powerpoints\Equipment\beakertongs.jpg"/>
          <p:cNvPicPr/>
          <p:nvPr/>
        </p:nvPicPr>
        <p:blipFill>
          <a:blip r:embed="rId1"/>
          <a:stretch/>
        </p:blipFill>
        <p:spPr>
          <a:xfrm>
            <a:off x="457200" y="14479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4952880" y="22096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eaker tongs are used to move beakers containing hot liqu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unsen Burn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3" descr="D:\My Documents\New Chemistry\Lab Powerpoints\Equipment\bunsenburner.jpg"/>
          <p:cNvPicPr/>
          <p:nvPr/>
        </p:nvPicPr>
        <p:blipFill>
          <a:blip r:embed="rId1"/>
          <a:stretch/>
        </p:blipFill>
        <p:spPr>
          <a:xfrm>
            <a:off x="68580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724280" y="2209680"/>
            <a:ext cx="405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nsen burners are used for the heating of nonvolatile liquids and sol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vaporating Dish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" name="Picture 3" descr="D:\My Documents\New Chemistry\Lab Powerpoints\Equipment\evaporatingdish.jpg"/>
          <p:cNvPicPr/>
          <p:nvPr/>
        </p:nvPicPr>
        <p:blipFill>
          <a:blip r:embed="rId1"/>
          <a:stretch/>
        </p:blipFill>
        <p:spPr>
          <a:xfrm>
            <a:off x="30492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419720" y="220968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vaporating dish is used for the heating of stable solid compounds and elemen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ruci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3" descr="D:\My Documents\New Chemistry\Lab Powerpoints\Equipment\crucible1.jpg"/>
          <p:cNvPicPr/>
          <p:nvPr/>
        </p:nvPicPr>
        <p:blipFill>
          <a:blip r:embed="rId1"/>
          <a:stretch/>
        </p:blipFill>
        <p:spPr>
          <a:xfrm>
            <a:off x="457200" y="1828800"/>
            <a:ext cx="3733920" cy="279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479840" y="217980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ucibles are used for heating certain solids, particularly metals, to very high temperatur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ay Triang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Picture 3" descr="D:\My Documents\New Chemistry\Lab Powerpoints\Equipment\claytriangle.jpg"/>
          <p:cNvPicPr/>
          <p:nvPr/>
        </p:nvPicPr>
        <p:blipFill>
          <a:blip r:embed="rId1"/>
          <a:stretch/>
        </p:blipFill>
        <p:spPr>
          <a:xfrm>
            <a:off x="4572000" y="1828800"/>
            <a:ext cx="3886200" cy="2911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57200" y="2209680"/>
            <a:ext cx="390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lay triangle is used as a support for porcelain crucibles when being heated over a Bunsen burn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rucible Tong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3" descr="D:\My Documents\New Chemistry\Lab Powerpoints\Equipment\crucibletongs.jpg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33520" y="213372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 handling hot crucibles; also used to pick up other hot objects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be used for picking up beakers!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lass Plat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3" descr="D:\My Documents\New Chemistry\Lab Powerpoints\Equipment\glassplate.jpg"/>
          <p:cNvPicPr/>
          <p:nvPr/>
        </p:nvPicPr>
        <p:blipFill>
          <a:blip r:embed="rId1"/>
          <a:stretch/>
        </p:blipFill>
        <p:spPr>
          <a:xfrm>
            <a:off x="4952880" y="1600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746280" y="179856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lass plates provide a surface for semi-micro scale experiments, such as drop reactions and testing of acids and bas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rlenmeyer Flask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2133720"/>
            <a:ext cx="39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lenmeyer flasks hold solids or liquids that may release gases during a reaction or that are likely to splatter if stirred or heat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" name="Picture 4" descr="D:\My Documents\New Chemistry\Lab Powerpoints\Equipment\erlenm.jpg"/>
          <p:cNvPicPr/>
          <p:nvPr/>
        </p:nvPicPr>
        <p:blipFill>
          <a:blip r:embed="rId1"/>
          <a:stretch/>
        </p:blipFill>
        <p:spPr>
          <a:xfrm>
            <a:off x="380880" y="1676520"/>
            <a:ext cx="4054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iangular Fi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791320" y="190512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iangular files are used primarily to cut glass rod, a skill that your instructor will share with you when it becomes usefu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5" descr="triangularfile"/>
          <p:cNvPicPr/>
          <p:nvPr/>
        </p:nvPicPr>
        <p:blipFill>
          <a:blip r:embed="rId1"/>
          <a:stretch/>
        </p:blipFill>
        <p:spPr>
          <a:xfrm>
            <a:off x="228600" y="2133720"/>
            <a:ext cx="5229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9" name="Picture 4" descr="ringstand"/>
          <p:cNvPicPr/>
          <p:nvPr/>
        </p:nvPicPr>
        <p:blipFill>
          <a:blip r:embed="rId1"/>
          <a:stretch/>
        </p:blipFill>
        <p:spPr>
          <a:xfrm>
            <a:off x="5257800" y="1600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80880" y="19051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ingstands are a safe and convenient way to perform reactions that require heating using a Bunsen burn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ron Ring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3" descr="D:\My Documents\New Chemistry\Lab Powerpoints\Equipment\ironring.jpg"/>
          <p:cNvPicPr/>
          <p:nvPr/>
        </p:nvPicPr>
        <p:blipFill>
          <a:blip r:embed="rId1"/>
          <a:stretch/>
        </p:blipFill>
        <p:spPr>
          <a:xfrm>
            <a:off x="4724280" y="19810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517680" y="2408400"/>
            <a:ext cx="40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ron rings connect to a ringstand and provide a stable, elevated platform for the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tility Clam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3" descr="D:\My Documents\New Chemistry\Lab Powerpoints\Equipment\utilityclamp.jpg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2911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57200" y="2362320"/>
            <a:ext cx="420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tility clamps are used to secure test tubes, distillation columns, and burets to the ringstan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uble Buret Clam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213372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uble Buret clamps are used to burets – long graduated tubes used in titra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5" descr="doubleclamp"/>
          <p:cNvPicPr/>
          <p:nvPr/>
        </p:nvPicPr>
        <p:blipFill>
          <a:blip r:embed="rId1"/>
          <a:stretch/>
        </p:blipFill>
        <p:spPr>
          <a:xfrm>
            <a:off x="3733920" y="2133720"/>
            <a:ext cx="5238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ire Gauz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3" descr="D:\My Documents\New Chemistry\Lab Powerpoints\Equipment\wiregauze.jpg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2911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89080" y="2332080"/>
            <a:ext cx="44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re gauze sits on the iron ring to provide a place to stand a beaker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4920" y="38098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 older wire gauze, the white material is asbesto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ssed Fiber Pa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0880" y="1676520"/>
            <a:ext cx="314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4” x 4” square of ceramic fiber, it provides a surface for hot beakers so that the beaker does not come in contact with a cold countertop and shatt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Picture 4" descr="D:\My Documents\New Chemistry\Lab Powerpoints\Equipment\fiberpad.jpg"/>
          <p:cNvPicPr/>
          <p:nvPr/>
        </p:nvPicPr>
        <p:blipFill>
          <a:blip r:embed="rId1"/>
          <a:stretch/>
        </p:blipFill>
        <p:spPr>
          <a:xfrm>
            <a:off x="3657600" y="13716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ik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3" descr="striker"/>
          <p:cNvPicPr/>
          <p:nvPr/>
        </p:nvPicPr>
        <p:blipFill>
          <a:blip r:embed="rId1"/>
          <a:stretch/>
        </p:blipFill>
        <p:spPr>
          <a:xfrm>
            <a:off x="4419720" y="1066680"/>
            <a:ext cx="4497120" cy="3370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212760" y="126540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rikers are used to light Bunsen burners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28600" y="2438280"/>
            <a:ext cx="413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flints on strikers are expensive. Do not operate the striker repeatedly just to see the spark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lorence Flask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" name="Picture 1027" descr="D:\My Documents\New Chemistry\Lab Powerpoints\Equipment\florenceflask.jpg"/>
          <p:cNvPicPr/>
          <p:nvPr/>
        </p:nvPicPr>
        <p:blipFill>
          <a:blip r:embed="rId1"/>
          <a:stretch/>
        </p:blipFill>
        <p:spPr>
          <a:xfrm>
            <a:off x="457200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8"/>
          <p:cNvSpPr/>
          <p:nvPr/>
        </p:nvSpPr>
        <p:spPr>
          <a:xfrm>
            <a:off x="380880" y="22096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rely used in first year chemistry, it is used for the mixing of chemicals. Narrow neck prevents splash exposu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raduated Cylind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2438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graduated cylinder is used to measure volumes of liqu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" name="Picture 4" descr="D:\My Documents\New Chemistry\Lab Powerpoints\Equipment\bothgrad.jpg"/>
          <p:cNvPicPr/>
          <p:nvPr/>
        </p:nvPicPr>
        <p:blipFill>
          <a:blip r:embed="rId1"/>
          <a:stretch/>
        </p:blipFill>
        <p:spPr>
          <a:xfrm>
            <a:off x="3733920" y="1523880"/>
            <a:ext cx="5257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9880" y="4568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as Collecting Bott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" name="Picture 4" descr="gasbottle"/>
          <p:cNvPicPr/>
          <p:nvPr/>
        </p:nvPicPr>
        <p:blipFill>
          <a:blip r:embed="rId1"/>
          <a:stretch/>
        </p:blipFill>
        <p:spPr>
          <a:xfrm>
            <a:off x="609480" y="609480"/>
            <a:ext cx="2524320" cy="3705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733920" y="1752480"/>
            <a:ext cx="510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 use gas collecting bottles when large volumes of gases are produced, and must be collected by the displacement of wat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est T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Picture 5" descr="D:\My Documents\New Chemistry\Lab Powerpoints\Equipment\testtubes.jpg"/>
          <p:cNvPicPr/>
          <p:nvPr/>
        </p:nvPicPr>
        <p:blipFill>
          <a:blip r:embed="rId1"/>
          <a:stretch/>
        </p:blipFill>
        <p:spPr>
          <a:xfrm>
            <a:off x="1752480" y="15238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657600" y="99072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3 x 100 mm test tub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0292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0 x 75 mm test tub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36440" y="2103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gni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ub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447920" y="2743200"/>
            <a:ext cx="685800" cy="152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AutoShape 10"/>
          <p:cNvSpPr/>
          <p:nvPr/>
        </p:nvSpPr>
        <p:spPr>
          <a:xfrm rot="16228200">
            <a:off x="4651200" y="453600"/>
            <a:ext cx="457200" cy="2597400"/>
          </a:xfrm>
          <a:custGeom>
            <a:avLst/>
            <a:gdLst>
              <a:gd name="textAreaLeft" fmla="*/ 0 w 457200"/>
              <a:gd name="textAreaRight" fmla="*/ 164880 w 457200"/>
              <a:gd name="textAreaTop" fmla="*/ 67680 h 2597400"/>
              <a:gd name="textAreaBottom" fmla="*/ 2529720 h 259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AutoShape 11"/>
          <p:cNvSpPr/>
          <p:nvPr/>
        </p:nvSpPr>
        <p:spPr>
          <a:xfrm rot="5361600">
            <a:off x="6418800" y="3791520"/>
            <a:ext cx="459000" cy="952560"/>
          </a:xfrm>
          <a:custGeom>
            <a:avLst/>
            <a:gdLst>
              <a:gd name="textAreaLeft" fmla="*/ 0 w 459000"/>
              <a:gd name="textAreaRight" fmla="*/ 165600 w 459000"/>
              <a:gd name="textAreaTop" fmla="*/ 24840 h 952560"/>
              <a:gd name="textAreaBottom" fmla="*/ 9277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ube Hold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1027"/>
          <p:cNvSpPr/>
          <p:nvPr/>
        </p:nvSpPr>
        <p:spPr>
          <a:xfrm>
            <a:off x="609480" y="24382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test tube holder is useful for holding a test tube which is too hot to hand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5" name="Picture 1028" descr="D:\My Documents\New Chemistry\Lab Powerpoints\Equipment\holder.jpg"/>
          <p:cNvPicPr/>
          <p:nvPr/>
        </p:nvPicPr>
        <p:blipFill>
          <a:blip r:embed="rId1"/>
          <a:stretch/>
        </p:blipFill>
        <p:spPr>
          <a:xfrm>
            <a:off x="4114800" y="1371600"/>
            <a:ext cx="48164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ube Brush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7" name="Picture 1027" descr="D:\My Documents\New Chemistry\Lab Powerpoints\Equipment\ttbrushes.jpg"/>
          <p:cNvPicPr/>
          <p:nvPr/>
        </p:nvPicPr>
        <p:blipFill>
          <a:blip r:embed="rId1"/>
          <a:stretch/>
        </p:blipFill>
        <p:spPr>
          <a:xfrm>
            <a:off x="4343400" y="15238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28"/>
          <p:cNvSpPr/>
          <p:nvPr/>
        </p:nvSpPr>
        <p:spPr>
          <a:xfrm>
            <a:off x="304920" y="160020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st tube brushes are used to clean test tubes and graduated cylinder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Text Box 1029"/>
          <p:cNvSpPr/>
          <p:nvPr/>
        </p:nvSpPr>
        <p:spPr>
          <a:xfrm>
            <a:off x="380880" y="312408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ing a large brush into a small test tube will often break the tub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1:12:41Z</dcterms:created>
  <dc:creator>Andrew Allan</dc:creator>
  <dc:description/>
  <dc:language>en-US</dc:language>
  <cp:lastModifiedBy>Ashley</cp:lastModifiedBy>
  <dcterms:modified xsi:type="dcterms:W3CDTF">2011-07-06T19:59:44Z</dcterms:modified>
  <cp:revision>71</cp:revision>
  <dc:subject/>
  <dc:title>PowerPoint Presentation</dc:title>
</cp:coreProperties>
</file>